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72551"/>
        <c:axId val="38894126"/>
      </c:barChart>
      <c:catAx>
        <c:axId val="30572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94126"/>
        <c:crosses val="autoZero"/>
        <c:auto val="1"/>
        <c:lblAlgn val="ctr"/>
        <c:lblOffset val="100"/>
        <c:noMultiLvlLbl val="0"/>
      </c:catAx>
      <c:valAx>
        <c:axId val="38894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72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FC7-4ACE-48F6-8D8D-683FE311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1A5-A8D6-4693-AD31-CB9671B7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1A7-8222-42D4-98AA-ABF70CC1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B2B-D5F7-4476-AA22-EAE1F506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694-579A-4E1A-8BB2-10C9A65E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5B4-2A4B-468E-8E77-BC8DBD1D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DC2-605F-4FF4-89A4-72D16958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4984-7F27-4A68-98C4-DC43630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1CE-3C1F-4D31-8DE9-87A5CA5C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528-9651-4230-9ECC-FAFD8FA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E6A-E65F-4232-AD2A-6D8D21A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987-080C-4973-99ED-A9BB253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66336-3E5D-45D8-8BED-161E9277C0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