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92082"/>
        <c:axId val="45247905"/>
      </c:barChart>
      <c:catAx>
        <c:axId val="67992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7905"/>
        <c:crosses val="autoZero"/>
        <c:auto val="1"/>
        <c:lblAlgn val="ctr"/>
        <c:lblOffset val="100"/>
        <c:noMultiLvlLbl val="0"/>
      </c:catAx>
      <c:valAx>
        <c:axId val="45247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2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EC3-DD5B-499D-9DBD-BD446AF5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01E-5B75-4DEB-B0A8-5F44CF9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981-CB38-4BBD-AF52-717BBC9E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B4D-590F-46B3-A6E7-7685FF48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A01-01A3-4F53-82B7-AB5064A4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C1C-3EAF-4D1B-ABC0-0BDB039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F78-ECB0-4D17-A42E-8793A91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C40C-0389-41C2-BFC2-F7602C02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3B3-61B6-4233-B2CC-4BA0EAA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98E-8086-4D17-B82D-3EF7D09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228-6112-48BA-80EF-EC3A347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494-FE27-4B78-9EC9-DD22EC3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59C17-232B-478A-8B6C-16B8A94217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