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8104"/>
        <c:axId val="69395255"/>
      </c:barChart>
      <c:catAx>
        <c:axId val="2988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5255"/>
        <c:crosses val="autoZero"/>
        <c:auto val="1"/>
        <c:lblAlgn val="ctr"/>
        <c:lblOffset val="100"/>
        <c:noMultiLvlLbl val="0"/>
      </c:catAx>
      <c:valAx>
        <c:axId val="69395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858-C872-479C-9CEE-B16AE4C8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B92-6670-467C-8E45-E342B7B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3A84-D2E6-4238-9748-61A1BF2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47F-68E6-4565-9D5B-BB65DE54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931-DC61-46A8-A5E9-CBCB6E5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9E5-E50C-44B7-AAFF-27E4C0B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64A-BFC8-41D5-BF90-FA5D3C7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175-4234-48D9-81FC-91F3A6FB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3F1-78B5-468B-8C2E-C2C89471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16F-2B09-4E22-A811-8F61248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72A-D590-4786-B191-B59EA4F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F8A-FA0B-44F6-A3F8-FF66520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9CA54-278A-4465-BD49-152494A735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