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504570"/>
        <c:axId val="42565841"/>
      </c:barChart>
      <c:catAx>
        <c:axId val="645045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565841"/>
        <c:crosses val="autoZero"/>
        <c:auto val="1"/>
        <c:lblAlgn val="ctr"/>
        <c:lblOffset val="100"/>
        <c:noMultiLvlLbl val="0"/>
      </c:catAx>
      <c:valAx>
        <c:axId val="425658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5045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84A1-02E0-4EDA-B3B9-AC8E414FA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9B36-3DFB-4B6A-BBB0-AE2483D73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74EC-E55F-418A-B494-52437021A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13A8-0676-482A-8C08-9780C795B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A488-FFAA-48F7-B4EC-B008AC5D8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C965-06B2-4BC3-AE19-EED9800DF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ED25-CA27-42A0-AE0D-5C5CBB66A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D8FB-0DDF-4522-A0EC-8E0F5A237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13C8-476A-410D-A74F-F22F58B90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E4DB-962D-4AF4-89FC-0ED983FD1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44A1-47AC-4CB7-9B2F-D05888500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8D49-1790-4841-9939-A83EB6586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C14F39-A3D9-4E23-8B4F-A1EFEF73D81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