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76316"/>
        <c:axId val="67039535"/>
      </c:barChart>
      <c:catAx>
        <c:axId val="95576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39535"/>
        <c:crosses val="autoZero"/>
        <c:auto val="1"/>
        <c:lblAlgn val="ctr"/>
        <c:lblOffset val="100"/>
        <c:noMultiLvlLbl val="0"/>
      </c:catAx>
      <c:valAx>
        <c:axId val="67039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76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C62-E689-4BD5-92C9-9DE6C869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CF4-2106-4D84-B820-0215D8C8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59F-28B0-4306-8018-6EAB9E6B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627-2364-4DE6-AC54-56831E2A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ADA-ADEE-4E75-9E2E-C579F156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D67-2588-49D0-92E7-2C85CD66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D46-7925-4030-9CE2-899B8B30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895-19AE-4302-B541-07CA6DEB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CAE-CDDB-4217-8281-ED6275B1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153-CBFD-4435-BC71-C2771183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AD4-D720-4159-BA33-CC317493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B50-12AC-44CF-A314-689A9FE3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28AE5-148C-455F-8D2E-EF15D4D98D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