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84648"/>
        <c:axId val="30758627"/>
      </c:barChart>
      <c:catAx>
        <c:axId val="72984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58627"/>
        <c:crosses val="autoZero"/>
        <c:auto val="1"/>
        <c:lblAlgn val="ctr"/>
        <c:lblOffset val="100"/>
        <c:noMultiLvlLbl val="0"/>
      </c:catAx>
      <c:valAx>
        <c:axId val="30758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84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C58-9638-4DC7-9AF9-4E3C0D10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AD3-8212-492E-A83B-1B469D6D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096-AF0A-412E-A60D-002721B7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041-008E-449E-A284-C8F6435A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12D-4A5D-4F46-8DBF-45744E61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A54-FF3B-4C1E-BD11-DFF781F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B86-3E68-498D-8E11-60E1E0D4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2C4-1CD2-47CE-9543-39EA7941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3AC-E052-4D57-AB0C-8677C674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C47-FC90-41D9-A35B-783CE401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E3E-55E8-4114-8B0B-C98381D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686-5EF7-4F85-869E-745C892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50010-37AC-453E-B6C7-BF7AD38AE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