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858724"/>
        <c:axId val="32700103"/>
      </c:barChart>
      <c:catAx>
        <c:axId val="738587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700103"/>
        <c:crosses val="autoZero"/>
        <c:auto val="1"/>
        <c:lblAlgn val="ctr"/>
        <c:lblOffset val="100"/>
        <c:noMultiLvlLbl val="0"/>
      </c:catAx>
      <c:valAx>
        <c:axId val="327001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587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3F87-291A-492C-AFA4-CD85F511C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E5FA-7A77-4AFE-A3F9-1FACA4A0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F75C-B250-4B1A-9CC6-9D94EC86A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A30B-C8D7-4EE9-ADCA-EE1B4B34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71A5-2606-4C95-A557-8E47EBFA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D775-BA01-4023-8A1D-82CCDDA1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9298-3589-4C65-AC6B-EB4AFB07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438E-3504-46A0-A8E9-E621CD1A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BA33-B6CC-4EA9-BE38-A881822E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4038-D78E-4215-990C-0BF0DEAA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1391-9FEC-484E-B0F2-19D57CE9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563C-2B5A-406D-8BF7-76C8918D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315D5-7498-4DA3-9246-CC0A08C273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