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70837"/>
        <c:axId val="38058167"/>
      </c:barChart>
      <c:catAx>
        <c:axId val="98970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58167"/>
        <c:crosses val="autoZero"/>
        <c:auto val="1"/>
        <c:lblAlgn val="ctr"/>
        <c:lblOffset val="100"/>
        <c:noMultiLvlLbl val="0"/>
      </c:catAx>
      <c:valAx>
        <c:axId val="38058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0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633F-3CAF-4018-A225-C87D6AF3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DD5-564F-4277-8F20-5C4E06A3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43F-422B-4328-A51C-35B75D22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093-88AA-4207-96F5-0828F0A6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56B-D5B9-4165-996B-8091380F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BB4D-A9F1-4CA1-8DEC-1F30C01A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B63-5160-4C75-9870-176B1314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670-B2E0-4CA0-B16C-D9BF41A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F1D-934D-4162-92CD-890F0687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56F-54CB-40E9-A566-3AAAFC4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7EB-C9D3-4F3A-8FB9-34FF7D5B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C57-89CC-4A77-B9D8-E8A2C43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C4C34-7BBD-453D-9757-51E300F42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