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23491"/>
        <c:axId val="46454199"/>
      </c:barChart>
      <c:catAx>
        <c:axId val="53623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54199"/>
        <c:crosses val="autoZero"/>
        <c:auto val="1"/>
        <c:lblAlgn val="ctr"/>
        <c:lblOffset val="100"/>
        <c:noMultiLvlLbl val="0"/>
      </c:catAx>
      <c:valAx>
        <c:axId val="46454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23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ABB-8E3B-4DF3-9AD4-4123CAEF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636-A468-4958-B6A8-968B0479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EA1-910E-4B7D-83E2-56D277EA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F3A-EAB1-4604-B368-72507F3F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AFD-2F13-42E9-B45F-2450A756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E62-6A69-4C17-A3E6-0F916422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20D-6009-4D0B-84E0-2D005754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7BE-ADBD-42A3-87E4-DA067EE7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FE9-89A6-417D-8C89-4625FD8A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204-E5CB-448F-97E4-6AE5090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822-AEE5-43D5-A342-13E1748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A6C-0054-43B5-9DAB-B2719C9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1CE7F-0FB7-4D15-A10A-A35AF81818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