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82389"/>
        <c:axId val="26843848"/>
      </c:barChart>
      <c:catAx>
        <c:axId val="53782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43848"/>
        <c:crosses val="autoZero"/>
        <c:auto val="1"/>
        <c:lblAlgn val="ctr"/>
        <c:lblOffset val="100"/>
        <c:noMultiLvlLbl val="0"/>
      </c:catAx>
      <c:valAx>
        <c:axId val="26843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82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DA4-0807-48B2-9788-F736FF99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EFA-76A1-4874-8BA2-3975B32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880-EC56-4C3C-B806-10DC5A42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8F3-F430-4B93-9157-ED3EABEB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4FD-D8DE-4AC9-A28F-9CB1CD6E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C70-7D25-4700-91E9-33403F22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8D0-6BCE-4209-82A2-3CF55B4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0E3-732A-4221-BD0E-117C9939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9A8-5243-44DD-9143-1E309641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AC0-8E01-4B33-BA1B-C75A645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345-E53D-4D1F-B5BE-B6863333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A2C-F255-4D5F-89B8-AFFB3BF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073B4-BCA1-4BA0-A3CF-3ABE00F4B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