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930720"/>
        <c:axId val="91354113"/>
      </c:barChart>
      <c:catAx>
        <c:axId val="193072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354113"/>
        <c:crosses val="autoZero"/>
        <c:auto val="1"/>
        <c:lblAlgn val="ctr"/>
        <c:lblOffset val="100"/>
        <c:noMultiLvlLbl val="0"/>
      </c:catAx>
      <c:valAx>
        <c:axId val="9135411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3072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1D22-398E-48CC-B37E-93475A7E5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73BC-FE4E-492B-9876-988863172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8559-08BC-4A2A-A511-2121BB7AF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E05B-0DF9-41A2-A119-ADABA4B50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AB99-04E6-4B53-A31D-073686D84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8139-B889-4B2D-85F3-2B453400F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2043-C7A2-4AD1-B56C-00F28714D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9145-338E-4263-A736-D7D1CA93F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BCA8-B9D5-49B7-A606-484745D72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07C3-F38E-47C3-B5B0-E1AE73DA1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C679-FC7F-45B9-BD33-FF6FA932E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4FF9-58B4-43D4-AC5A-972D5A6A2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28051B-E67F-431D-B5BA-11E1BF9444D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