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4702"/>
        <c:axId val="97241317"/>
      </c:barChart>
      <c:catAx>
        <c:axId val="3644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1317"/>
        <c:crosses val="autoZero"/>
        <c:auto val="1"/>
        <c:lblAlgn val="ctr"/>
        <c:lblOffset val="100"/>
        <c:noMultiLvlLbl val="0"/>
      </c:catAx>
      <c:valAx>
        <c:axId val="97241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4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638-4F66-4CC5-8CF8-A8CB4D0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66B-8C8A-4204-96E6-ABDF9C76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FAE-8801-48E6-A1C7-903B32C7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21F-D47D-4514-83E8-DA23AAA3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2D3-CA0B-49BC-893C-F3D3EA1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BF2-1641-4D1A-A17E-E81E333B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A72-2F7E-4B59-8917-E12BE44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DA6-D874-4FAA-A200-5F0B187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CFA-0B9F-4D48-8441-45FEB50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B93-B203-4A11-83D4-960BFE1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E4C-C6F0-4827-BB5B-CCDFC1B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E91-05F1-4458-9E11-979AAB0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9CE4-F698-461D-8D75-355C85C7B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