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31957"/>
        <c:axId val="50757124"/>
      </c:barChart>
      <c:catAx>
        <c:axId val="10731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57124"/>
        <c:crosses val="autoZero"/>
        <c:auto val="1"/>
        <c:lblAlgn val="ctr"/>
        <c:lblOffset val="100"/>
        <c:noMultiLvlLbl val="0"/>
      </c:catAx>
      <c:valAx>
        <c:axId val="50757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1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410-FDF7-4DB7-AE9A-54533FFA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BCA-95B8-489E-8F6F-0167CD00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F89-E997-4889-81C3-89ABEA21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2B0-36AA-48E1-9961-0F01B7AC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F9E-25DC-4F98-B066-B79CF3A8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D5E-6E29-4F96-B886-65B7C699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2BB-C65C-4FDA-8E4D-D520C209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26B3-32E3-4369-A9E3-2E61C6D6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18F-AA8D-4023-97C6-E3A1EE9C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5DF-1AB2-4219-BA5C-DE1A43F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F05-2CD2-49A6-9B9A-4EFCB235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770-D9B8-4920-9E3C-8578D09A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ABDE-4DD8-4691-A105-558453962C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