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20768"/>
        <c:axId val="35645449"/>
      </c:barChart>
      <c:catAx>
        <c:axId val="92920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45449"/>
        <c:crosses val="autoZero"/>
        <c:auto val="1"/>
        <c:lblAlgn val="ctr"/>
        <c:lblOffset val="100"/>
        <c:noMultiLvlLbl val="0"/>
      </c:catAx>
      <c:valAx>
        <c:axId val="35645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20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162-20B5-4CB2-92F8-F1EE9F57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540-74F6-458F-A1CF-1C186490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A5B-14F4-4399-A45E-4CBA3A69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7F1-D672-4E60-B571-8A3D743E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D3F-2BBC-4341-A37C-B86587BC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420-569C-465B-A7DF-C5F29040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D35-5A91-49B2-8E7F-573C4947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888-C1EB-4C42-90D5-52709F25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F36-152A-4F0F-B9E1-EA73AD8F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E8F-31A5-489B-997B-8C0DE3CC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AE4-F08E-46A1-88F5-0F46BB27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E1A-55A8-40D8-898E-604FE5B6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0B1D7-DE4E-4647-8A9E-BF32985DEC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