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67326"/>
        <c:axId val="72021097"/>
      </c:barChart>
      <c:catAx>
        <c:axId val="10767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21097"/>
        <c:crosses val="autoZero"/>
        <c:auto val="1"/>
        <c:lblAlgn val="ctr"/>
        <c:lblOffset val="100"/>
        <c:noMultiLvlLbl val="0"/>
      </c:catAx>
      <c:valAx>
        <c:axId val="72021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67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061-5329-41A0-9368-8AA827C0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A44-BCD6-45A4-AF90-892A44E9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FFC-B65F-452C-A3C8-48C5E32C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F50-5091-4CC6-A466-E9A66763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B2D-A8CB-4BE5-8B49-50A73A02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30D-285D-42C2-8053-2D1E6435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77F-E046-42BA-919A-531C5115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6CE-854E-4CEF-8F68-0D94200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460-D906-4ACD-AEF1-25DA08C7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357-8E09-4A30-8507-0BA80BA9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DFF-0F1B-425B-B920-F6A0F217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D70-1AAD-4012-AD8D-EBA58EFB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DBA91-726E-4034-94E4-C47CC2A1E3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