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96336"/>
        <c:axId val="58474009"/>
      </c:barChart>
      <c:catAx>
        <c:axId val="89196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74009"/>
        <c:crosses val="autoZero"/>
        <c:auto val="1"/>
        <c:lblAlgn val="ctr"/>
        <c:lblOffset val="100"/>
        <c:noMultiLvlLbl val="0"/>
      </c:catAx>
      <c:valAx>
        <c:axId val="584740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96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E38-B98C-4D90-89C3-C41CFA82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4430-C123-497B-B047-59CBB43E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300-FF52-4EB5-B149-84DF844D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7E9F-E0B4-484E-935C-B78A08EC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0D6-A2D7-40D1-AAE1-152BA502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EAF-B90D-485E-8899-863CEC34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33AF-4393-4D47-9664-58FE9541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AFC-96EB-48B1-8B91-7B6D18F5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BEE-94DD-4963-A8F8-C6B56ACB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A9B-4F25-406E-9F4B-61EEC953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AF38-5CC9-4742-8A87-73C708D7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0B34-781B-4DD4-932C-FCE02A58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407E6-05EC-4158-9B0F-5B8CA514DA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