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60114"/>
        <c:axId val="45936807"/>
      </c:barChart>
      <c:catAx>
        <c:axId val="24260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36807"/>
        <c:crosses val="autoZero"/>
        <c:auto val="1"/>
        <c:lblAlgn val="ctr"/>
        <c:lblOffset val="100"/>
        <c:noMultiLvlLbl val="0"/>
      </c:catAx>
      <c:valAx>
        <c:axId val="45936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60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FEA-FA57-4BB5-9DB5-A40E1C86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B5E-A0A3-425E-B3E6-B2370DBB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5BD-6B04-473E-89B3-7943B147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7CB-9B00-4F52-986D-4D3BA608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093-DD21-4DCE-B2E5-C0F4549B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9AF-F5DC-4B2A-BDE8-357976B0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9D0-43DB-4551-A5D0-11EBC70D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AD0-3254-4A21-9DC6-45C2B17A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B3B-347F-4A0F-956A-88ABF570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035-38B6-4B9C-8DEF-C6946268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BAA-F858-47F1-93FA-EB29A5F6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60C-8B92-43F9-B221-8C08D7E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AAC2D-A34F-4269-AC85-471596B9F0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