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74755"/>
        <c:axId val="86454572"/>
      </c:barChart>
      <c:catAx>
        <c:axId val="83274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4572"/>
        <c:crosses val="autoZero"/>
        <c:auto val="1"/>
        <c:lblAlgn val="ctr"/>
        <c:lblOffset val="100"/>
        <c:noMultiLvlLbl val="0"/>
      </c:catAx>
      <c:valAx>
        <c:axId val="86454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74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FAD-8BB6-4CAB-809B-D7DAE858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662-323A-48F9-BECA-C3CF3F4F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7E0-1138-4E81-8F3A-61EB2D2E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989-022D-4BE1-B4B9-EE95B699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963-58E5-4D96-A478-10C8D9C3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11BE-C18A-4FA8-B7C6-645BBDE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0F7-613E-46CA-B6BE-14053F3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B57-C321-470D-9FAC-5F6BA2E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1E9-9133-490E-834A-B2053976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2A6-A256-4244-B167-4ED3E91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BD8-E069-4494-836E-096715D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906-84D2-4C25-AF1B-00162C5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76A11-6700-4852-B024-9E14FAA37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