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843"/>
        <c:axId val="14451949"/>
      </c:barChart>
      <c:catAx>
        <c:axId val="3578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51949"/>
        <c:crosses val="autoZero"/>
        <c:auto val="1"/>
        <c:lblAlgn val="ctr"/>
        <c:lblOffset val="100"/>
        <c:noMultiLvlLbl val="0"/>
      </c:catAx>
      <c:valAx>
        <c:axId val="14451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8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19E-8085-4E53-A341-DDEFDE2B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4D1-1239-48C3-9763-AA20A570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F88-4ABB-4173-A1BF-0E773A98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BCA-3E6D-49CC-9585-9FEDDFC0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736-2C95-4CE2-8C27-6E2CA866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51C2-96FC-4B0F-A7FA-FEE164EA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1F4A-3935-4F7E-A95D-1645F0B5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9DA8-DED7-4CB0-8701-AF6411CD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66E9-CC6D-4EBF-BDB2-B35E1594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4C7-CED4-45FD-A68D-E9C21C53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A01-3772-4422-A99D-5AED8676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90FA-4541-4F66-889C-9630ED18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B325A-F69D-49FB-A98B-CC6A1B25EE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