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530556"/>
        <c:axId val="43778504"/>
      </c:barChart>
      <c:catAx>
        <c:axId val="255305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778504"/>
        <c:crosses val="autoZero"/>
        <c:auto val="1"/>
        <c:lblAlgn val="ctr"/>
        <c:lblOffset val="100"/>
        <c:noMultiLvlLbl val="0"/>
      </c:catAx>
      <c:valAx>
        <c:axId val="437785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5305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AAA1-7727-4BC1-A928-11BFCF1BB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417B-965E-45F3-AC2D-EB27E77C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619F-DD31-462F-977A-DC34452D3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CAAF-9806-48D7-9EC0-976ED7069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3DA1-C5A1-43C6-B8F3-93D0BEAD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7231-D6D9-4538-8EFC-B1CFE4BF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1DD3-9333-4EDC-9C23-7E9C24B3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96CA-DEE4-4D4C-B1FF-6E8D4CDD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DC42-919A-4976-B2ED-39320D98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1B5B-299D-4978-A1AD-76A1E505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8857-C95C-4D30-B9FB-6D9EDEB0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FFD7-DB15-450C-BB90-C5F1848E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846D4A-9557-41D8-9DE6-9B052F6771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