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046105"/>
        <c:axId val="86912548"/>
      </c:barChart>
      <c:catAx>
        <c:axId val="100461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12548"/>
        <c:crosses val="autoZero"/>
        <c:auto val="1"/>
        <c:lblAlgn val="ctr"/>
        <c:lblOffset val="100"/>
        <c:noMultiLvlLbl val="0"/>
      </c:catAx>
      <c:valAx>
        <c:axId val="869125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461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1CB4-F393-4955-A8BD-AE9087E8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5526-F65E-4202-80DF-C6A52852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1956-71BF-42A4-97ED-56FF5B3EF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13C4-BD75-491C-B956-72B699B04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B51F-E43C-4A11-B1DB-2BAD3504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A521-CBF1-4314-AD01-D30AC8AD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54A2-A8DD-463D-B8BF-15E9624E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A02E-2A5D-4214-A4D7-A6762D7A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0189-8077-45B8-A724-5593859A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94A9-C623-4AF0-9DF6-77171D38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702D-A3BB-4196-90B3-F40105D7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6123-B75A-429A-9582-9D3E0567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602FB-5E57-4217-BF71-CDE2E3CADB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