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15347"/>
        <c:axId val="30747318"/>
      </c:barChart>
      <c:catAx>
        <c:axId val="77215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7318"/>
        <c:crosses val="autoZero"/>
        <c:auto val="1"/>
        <c:lblAlgn val="ctr"/>
        <c:lblOffset val="100"/>
        <c:noMultiLvlLbl val="0"/>
      </c:catAx>
      <c:valAx>
        <c:axId val="30747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5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DC3-9B8E-443C-BFDC-260CCE7A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AA4-531B-488B-BB40-6E6F8E2A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194-BE71-414D-929C-0A6B9A6E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DAE-0D23-4E53-89F6-25283415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3F7-EF31-484C-80EB-431717C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C11-E96E-4132-9D32-95517934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FE4-0107-4420-88AB-3761B55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3C8-6FCE-4E7B-9988-3CBC7B5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F74-00AC-407C-A364-53312BDE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FD6-BA38-4690-8E0D-10E470C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8D1-8727-470C-87B1-FC4D368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592-CF88-4CB1-AD51-CAE7756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0D24D-E4DF-438F-B514-ED5760FCC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