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73390"/>
        <c:axId val="58826247"/>
      </c:barChart>
      <c:catAx>
        <c:axId val="29773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6247"/>
        <c:crosses val="autoZero"/>
        <c:auto val="1"/>
        <c:lblAlgn val="ctr"/>
        <c:lblOffset val="100"/>
        <c:noMultiLvlLbl val="0"/>
      </c:catAx>
      <c:valAx>
        <c:axId val="58826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73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06D-D1F8-4114-8EFE-4DC755B1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318-DD8D-4E62-BCB1-0BA74052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66E-67B7-4995-A36D-631B6213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A1A-509D-4D85-A57C-54A1DEFC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42A-A3E7-4332-8FAE-A04915D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BCA-D647-4BD6-AFDD-D6E64127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F30-16C0-43C3-B0DB-31D8240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5AE-00B1-45E0-B471-F24EA12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363-BC90-4ED9-A969-36FCC9C2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64F-D28B-4C7E-A4FA-606D83D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296-BF8C-46E2-86CA-7FE011A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F06-781B-4995-AE01-DF37514F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B4C4A-E78A-4A97-898E-00171B49CF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