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75181"/>
        <c:axId val="24431269"/>
      </c:barChart>
      <c:catAx>
        <c:axId val="435751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31269"/>
        <c:crosses val="autoZero"/>
        <c:auto val="1"/>
        <c:lblAlgn val="ctr"/>
        <c:lblOffset val="100"/>
        <c:noMultiLvlLbl val="0"/>
      </c:catAx>
      <c:valAx>
        <c:axId val="24431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751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566-977C-404E-BEA3-823DA2C2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27A-520C-4611-84DE-649A75D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6C3-0876-47A6-BB07-8E29147E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334-17ED-4860-9EEF-2039CD9A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C7E-C119-4284-BB40-E4CE8B10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E4C-446A-4BD0-81CD-7EE02E6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7D6-1418-4057-840F-66DAF75B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39C-CFD4-49CC-94B8-E28A8467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443-7C08-4F58-958F-999A17B2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7EE-454C-4970-A3C9-1CC5DC1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22E-FE0F-4C23-9BD5-745322B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648-0445-4D53-89C3-B5E54655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295C4-1D93-491E-AB0F-7722D2FF7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