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94079"/>
        <c:axId val="66975969"/>
      </c:barChart>
      <c:catAx>
        <c:axId val="34594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75969"/>
        <c:crosses val="autoZero"/>
        <c:auto val="1"/>
        <c:lblAlgn val="ctr"/>
        <c:lblOffset val="100"/>
        <c:noMultiLvlLbl val="0"/>
      </c:catAx>
      <c:valAx>
        <c:axId val="66975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4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B42-2756-4C67-B4AD-C7A9CA01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D24-4DCE-4562-B70A-77B808F4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EED-B256-4243-8850-872A59E9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B93A-6ED4-4CA5-8542-5BFEED75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D34-EFDD-4EB1-81CB-C005D75B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5CF6-9390-4791-B804-2EF3AA94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516-16D1-4436-BAF6-23DBCF5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6EA-F210-4367-9038-8411AC57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860-8406-4B63-9FA9-A1DB7387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FA0-9BA4-4429-9C96-2908F40B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5C7-7289-42C5-A2F5-84A8D6A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B47-5C15-402D-BE00-AEAA38A3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61E6-BB32-48AC-AAA9-BDFDCCEDF0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