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14233"/>
        <c:axId val="69970402"/>
      </c:barChart>
      <c:catAx>
        <c:axId val="6341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70402"/>
        <c:crosses val="autoZero"/>
        <c:auto val="1"/>
        <c:lblAlgn val="ctr"/>
        <c:lblOffset val="100"/>
        <c:noMultiLvlLbl val="0"/>
      </c:catAx>
      <c:valAx>
        <c:axId val="69970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1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6D6-8D6F-4336-B8C3-CCB4DB9C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925-6765-45F1-9DFA-A37EFA3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A40-F5DD-4D4E-BDDC-934928C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A86-3893-434F-B69D-465278E7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73B-9A6A-4C60-A88E-A9FA0C7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292-4AEC-4A40-B367-EACF85A7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D17-9BB7-4BFB-9151-9FA522D0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1D8-054E-46B3-8D1E-EB0B767C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55B-C16C-41A9-A3D4-BC6E99F9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091-40CF-4E7A-ACBB-F513C06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F11-0946-4CBB-B1EF-201B5F9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798-7C26-4902-A708-82FC0EB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4510E-AB68-489D-8B10-E4D1C853D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