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366120"/>
        <c:axId val="6250779"/>
      </c:barChart>
      <c:catAx>
        <c:axId val="533661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0779"/>
        <c:crosses val="autoZero"/>
        <c:auto val="1"/>
        <c:lblAlgn val="ctr"/>
        <c:lblOffset val="100"/>
        <c:noMultiLvlLbl val="0"/>
      </c:catAx>
      <c:valAx>
        <c:axId val="62507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3661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2A47-A723-41B3-B76C-E8DC1F117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89EB-A3DD-4C42-A4BE-0FC53657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13A9-71EF-48AE-AD64-EB2BC00E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3993-CA2A-41A3-85E6-33F4A4E41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7C89-8363-4A95-B4D6-C6E71DF3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BE60-D553-409A-A2E7-8474D37A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BCBB-9407-4FA2-88A9-E711B8A0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3087-23FB-41B8-9780-AD805FF3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782D-9668-4761-A805-CF63C830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4584-AF98-4CFE-9C17-4A1DFE17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C7BE-E668-4971-931B-E6795480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6AC0-BFA1-4D69-8FA1-3D634A51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181FBC-ADED-45AF-852B-9F4A97B791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