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80531"/>
        <c:axId val="60824285"/>
      </c:barChart>
      <c:catAx>
        <c:axId val="84880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24285"/>
        <c:crosses val="autoZero"/>
        <c:auto val="1"/>
        <c:lblAlgn val="ctr"/>
        <c:lblOffset val="100"/>
        <c:noMultiLvlLbl val="0"/>
      </c:catAx>
      <c:valAx>
        <c:axId val="60824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80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3B8-5BB9-4B40-9B19-3651BACC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793-BD57-4E8C-BD0D-660E5BBC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C29-90F3-4E95-8650-440DC821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637-CA81-44BA-842B-79D731B9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EDD-31FB-4B3C-942D-E9F17E84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998-D09B-4294-BBFB-BA9CA47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039-1965-400F-A537-459A4E3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F99-35FA-4A13-B295-CA0F189C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6DF-DE71-4305-9C84-88D92723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7CD-BC95-4802-813B-1F95F9E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447-8C7B-484A-935F-B94FF93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691-B238-4AB7-9060-BC6AF4AC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FB872-B9E0-4FCF-A8CD-F58A9926D0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