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612854"/>
        <c:axId val="96185866"/>
      </c:barChart>
      <c:catAx>
        <c:axId val="246128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185866"/>
        <c:crosses val="autoZero"/>
        <c:auto val="1"/>
        <c:lblAlgn val="ctr"/>
        <c:lblOffset val="100"/>
        <c:noMultiLvlLbl val="0"/>
      </c:catAx>
      <c:valAx>
        <c:axId val="961858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128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7FE4-0E6E-476B-A254-CFDC056B4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24F1-64B2-46F0-9340-9C7307CA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574F-6179-4167-8E28-ED0AEF690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E81D-41CB-4CA7-BBD7-11C98D1FB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6B97-ED7F-4589-9CDA-76289A56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A276-CED0-40E7-80DB-CC377FF2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5095-DCB3-40D3-AA7A-F3ED7F41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B853-4F77-43F7-9FCB-82496921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65DD-97F1-44CB-825A-1AAB4F5E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25E7-F270-4D00-8345-9272EB52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AEF3-2547-4C44-913C-A3831953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2DAC-42A5-47E6-8CFF-07FC8F2A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26BED-1FE8-4A41-AADA-514B0A705F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