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19355"/>
        <c:axId val="47120481"/>
      </c:barChart>
      <c:catAx>
        <c:axId val="27319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20481"/>
        <c:crosses val="autoZero"/>
        <c:auto val="1"/>
        <c:lblAlgn val="ctr"/>
        <c:lblOffset val="100"/>
        <c:noMultiLvlLbl val="0"/>
      </c:catAx>
      <c:valAx>
        <c:axId val="47120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19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AAD-351D-48B0-99BC-FFBAD1D0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CBC-0A89-42E4-8D84-14B902B4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B04-68E0-450B-97B9-11BF3189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DA3-C29A-48A8-B5E2-6E1FEC8E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071-4FFB-4405-BB16-F7EE1939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D9F-84DF-49E2-84FF-F045E7CD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059-C103-417E-9A39-CC24A06A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5F3-0F79-4F2A-B212-0F2F1386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639-A223-4EF1-AB4E-CA8CCBA6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8C4-F0AF-490B-BB60-46E41E01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AD2-C3DF-4CB8-8DE5-361D406E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F3A-1AC8-4B3D-BE5F-2B4A26B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8A47B-5CEE-4BE4-9D82-F56D610D2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