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78295"/>
        <c:axId val="95565516"/>
      </c:barChart>
      <c:catAx>
        <c:axId val="31778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65516"/>
        <c:crosses val="autoZero"/>
        <c:auto val="1"/>
        <c:lblAlgn val="ctr"/>
        <c:lblOffset val="100"/>
        <c:noMultiLvlLbl val="0"/>
      </c:catAx>
      <c:valAx>
        <c:axId val="95565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78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3C7-9EC8-4DF7-AB31-85CAB107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82D-8453-4BE2-854F-6C8A855F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C27-F24A-490B-9AA7-A1AC0C8C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B0D-AC94-4690-8098-D51BD48E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7AC-58DF-4E6A-B22F-787A0C58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7C3-FD19-4D01-AFFA-E125FD9D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885-69B0-4B9D-8121-E52E6F62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D01-619D-4AA3-8457-5F860C05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07D-2ADE-426B-9F6B-DB48F19B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58C-8DA1-4D71-B2CE-2267C55A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F28-C27A-4A08-A95E-2CE6BCD5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596-1751-4B86-BABC-8164547A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F1FFC-B999-4302-A908-FFEC3A9293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