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50472"/>
        <c:axId val="67324096"/>
      </c:barChart>
      <c:catAx>
        <c:axId val="45950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24096"/>
        <c:crosses val="autoZero"/>
        <c:auto val="1"/>
        <c:lblAlgn val="ctr"/>
        <c:lblOffset val="100"/>
        <c:noMultiLvlLbl val="0"/>
      </c:catAx>
      <c:valAx>
        <c:axId val="67324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50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380-7191-4DA3-81D6-4EADA64F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E9F-F3B1-4653-8AAE-21D7C9C7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0C5-9C1A-4268-91BC-5DD39F5A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453-BB9B-4FD0-8681-FF3A449D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40A-AEB9-4BF1-AF0B-0C4A59A7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703-5868-4EC2-B486-68AE6FD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B36-EE26-4BFA-8CC3-259358CB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315-9EE0-4A0D-8144-077F13AB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313-9C25-4F89-8582-5DBD9F35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886-F041-4B51-8F4E-E4708B2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7DA-2E1B-420D-A490-75630029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32D-1115-4B7D-BAC8-8C7025CC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A9FA0-88F1-427D-AA5A-8C9EA5195E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