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7020"/>
        <c:axId val="88761320"/>
      </c:barChart>
      <c:catAx>
        <c:axId val="2537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61320"/>
        <c:crosses val="autoZero"/>
        <c:auto val="1"/>
        <c:lblAlgn val="ctr"/>
        <c:lblOffset val="100"/>
        <c:noMultiLvlLbl val="0"/>
      </c:catAx>
      <c:valAx>
        <c:axId val="88761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364-5C04-4B45-9806-163FAFE6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A9E-0814-4866-87FB-DDDFBE03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740-C827-427E-8A17-7D3D86E9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D14-86B9-4A67-98EF-B04641F9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1E1-A496-45EB-A581-45902311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D00-26F5-493B-B40C-4205688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A16-3F79-45A3-A5AF-351CBF3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4CD-7357-4ACD-A170-124CE49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CCB-253D-43DF-9E2A-048A1FC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232-CDBA-4C65-9184-1B6A374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50E-4A5E-422D-8835-25D6C3AC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80B-6A9E-4892-A07E-956E1BD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3B93F-3944-4673-B843-354B8183E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