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92480"/>
        <c:axId val="26018064"/>
      </c:barChart>
      <c:catAx>
        <c:axId val="423924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18064"/>
        <c:crosses val="autoZero"/>
        <c:auto val="1"/>
        <c:lblAlgn val="ctr"/>
        <c:lblOffset val="100"/>
        <c:noMultiLvlLbl val="0"/>
      </c:catAx>
      <c:valAx>
        <c:axId val="26018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924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0D1-64F8-435F-B5C8-9C678CA7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5401-D93C-4599-B13D-0DEEFC52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407C-8241-4CA9-8AC0-8E364CE3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ACC-5ABB-4F82-BF14-C02BA7B6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8EC7-9356-4267-9E74-31FC618A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8F2-3336-4CD3-A2ED-7924D1B1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4B2-2F4B-4FEC-A62B-FDCBABF1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D3AF-192E-445A-A9DF-3E240D62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4EAB-31C7-4E8E-A3DA-B78CF2E6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B06-7716-4C8C-93D7-89DB0389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022-4AAE-40EE-A23A-7160F7A1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D36-64EF-4045-8ADB-7109BFB7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54667-9EA9-4CF0-B259-7E7C209BDF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